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781-7007-43DB-AF3C-CFDF65E5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B19-FC2C-4D95-AF26-6201BBCC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929-33FD-41BE-BE73-14CFD685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46F-AEC5-475F-A787-D774DD5C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12B-792E-477B-ACE4-FE87439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AC0-04D6-4394-B21B-0400E344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E5C-D6ED-4D12-96E2-E1944F6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5EA-7876-497F-88D7-EC77573A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3CC-7EB5-40BC-A4C9-9F48456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D96-A326-40B1-A9EA-B470A82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2F2-BF1F-4715-8FD3-003EF35D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42A-22E7-4FAD-BA21-187D2C3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88A7-C1EC-475F-A6F7-C0E332066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400800" y="4724280"/>
            <a:ext cx="2743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AMI 9P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0"/>
            <a:ext cx="4019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pperplate Gothic Bold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3160800"/>
            <a:ext cx="554364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18900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SEND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5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55640" y="189000"/>
            <a:ext cx="77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ng was a pioneer against racial vilifica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89200" y="1341000"/>
            <a:ext cx="5554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01.10.1969, Darwin, Austral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ruited fro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t Mary’s (NT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West Coast, Round 1, 19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Hawthorn, Preliminary Final, 200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ame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oal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4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miership play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3, 20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Vice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6, 1998-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5640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260280"/>
            <a:ext cx="54957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Michael Long – The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340000" y="595008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27Z</dcterms:created>
  <dc:creator>Reservoir District Secondary College</dc:creator>
  <dc:description/>
  <dc:language>en-US</dc:language>
  <cp:lastModifiedBy>Reservoir District Secondary College</cp:lastModifiedBy>
  <dcterms:modified xsi:type="dcterms:W3CDTF">2008-08-07T06:20:45Z</dcterms:modified>
  <cp:revision>4</cp:revision>
  <dc:subject/>
  <dc:title>Slide 1</dc:title>
</cp:coreProperties>
</file>